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79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880" y="3140280"/>
            <a:ext cx="79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880" y="31402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441680" y="31402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60360" y="99072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740200" y="99072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880" y="31402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60360" y="31402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740200" y="31402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880" y="9907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5760" y="227160"/>
            <a:ext cx="8231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880" y="31402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441680" y="31402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880" y="3140280"/>
            <a:ext cx="79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9907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271640" y="6171480"/>
            <a:ext cx="1869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© South-Wes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Educational Publis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cover-bl" descr=""/>
          <p:cNvPicPr/>
          <p:nvPr/>
        </p:nvPicPr>
        <p:blipFill>
          <a:blip r:embed="rId2"/>
          <a:stretch/>
        </p:blipFill>
        <p:spPr>
          <a:xfrm>
            <a:off x="8153280" y="5029200"/>
            <a:ext cx="901800" cy="114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5715000" y="2760840"/>
            <a:ext cx="297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e net income or net los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5715000" y="3287880"/>
            <a:ext cx="3200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tend net income or net loss to Balance Sheet Debit or Credit colum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15000" y="91440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tend balance sheet items to Balance Sheet colum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Ch15-03a" descr=""/>
          <p:cNvPicPr/>
          <p:nvPr/>
        </p:nvPicPr>
        <p:blipFill>
          <a:blip r:embed="rId1"/>
          <a:srcRect l="7772" t="9242" r="0" b="0"/>
          <a:stretch/>
        </p:blipFill>
        <p:spPr>
          <a:xfrm>
            <a:off x="228600" y="1143000"/>
            <a:ext cx="5425920" cy="4876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715000" y="1447920"/>
            <a:ext cx="3200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tend income statement items to Income Statement colum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LETING AN 8-COLUMN WORK SHE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9880" y="914400"/>
            <a:ext cx="381240" cy="38088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800600" y="914400"/>
            <a:ext cx="380880" cy="38088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22273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tal Income Statement and Balance Sheet colum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15000" y="407340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tal Income Statement and  Balance Sheet colum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15000" y="46069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eck that totals are in bala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914040" y="5334120"/>
            <a:ext cx="2590920" cy="380880"/>
            <a:chOff x="914040" y="5334120"/>
            <a:chExt cx="2590920" cy="380880"/>
          </a:xfrm>
        </p:grpSpPr>
        <p:sp>
          <p:nvSpPr>
            <p:cNvPr id="52" name=""/>
            <p:cNvSpPr/>
            <p:nvPr/>
          </p:nvSpPr>
          <p:spPr>
            <a:xfrm flipH="1">
              <a:off x="914040" y="5545080"/>
              <a:ext cx="2590920" cy="180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066680" y="5334120"/>
              <a:ext cx="381240" cy="3808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5562720" y="5146560"/>
            <a:ext cx="914400" cy="381240"/>
            <a:chOff x="5562720" y="5146560"/>
            <a:chExt cx="914400" cy="381240"/>
          </a:xfrm>
        </p:grpSpPr>
        <p:sp>
          <p:nvSpPr>
            <p:cNvPr id="55" name=""/>
            <p:cNvSpPr/>
            <p:nvPr/>
          </p:nvSpPr>
          <p:spPr>
            <a:xfrm>
              <a:off x="5562720" y="5334120"/>
              <a:ext cx="685800" cy="1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5880" y="5146560"/>
              <a:ext cx="381240" cy="38124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5562720" y="5486400"/>
            <a:ext cx="568080" cy="533520"/>
            <a:chOff x="5562720" y="5486400"/>
            <a:chExt cx="568080" cy="533520"/>
          </a:xfrm>
        </p:grpSpPr>
        <p:sp>
          <p:nvSpPr>
            <p:cNvPr id="58" name=""/>
            <p:cNvSpPr/>
            <p:nvPr/>
          </p:nvSpPr>
          <p:spPr>
            <a:xfrm>
              <a:off x="5562720" y="5486400"/>
              <a:ext cx="380880" cy="380880"/>
            </a:xfrm>
            <a:custGeom>
              <a:avLst/>
              <a:gdLst/>
              <a:ahLst/>
              <a:rect l="l" t="t" r="r" b="b"/>
              <a:pathLst>
                <a:path w="240" h="240">
                  <a:moveTo>
                    <a:pt x="0" y="0"/>
                  </a:moveTo>
                  <a:lnTo>
                    <a:pt x="240" y="0"/>
                  </a:lnTo>
                  <a:lnTo>
                    <a:pt x="240" y="24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749920" y="5638680"/>
              <a:ext cx="380880" cy="38124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847960" y="5695920"/>
            <a:ext cx="657360" cy="838080"/>
            <a:chOff x="2847960" y="5695920"/>
            <a:chExt cx="657360" cy="838080"/>
          </a:xfrm>
        </p:grpSpPr>
        <p:sp>
          <p:nvSpPr>
            <p:cNvPr id="61" name=""/>
            <p:cNvSpPr/>
            <p:nvPr/>
          </p:nvSpPr>
          <p:spPr>
            <a:xfrm>
              <a:off x="3048120" y="5695920"/>
              <a:ext cx="457200" cy="762120"/>
            </a:xfrm>
            <a:custGeom>
              <a:avLst/>
              <a:gdLst/>
              <a:ahLst/>
              <a:rect l="l" t="t" r="r" b="b"/>
              <a:pathLst>
                <a:path w="288" h="480">
                  <a:moveTo>
                    <a:pt x="288" y="0"/>
                  </a:moveTo>
                  <a:lnTo>
                    <a:pt x="0" y="0"/>
                  </a:lnTo>
                  <a:lnTo>
                    <a:pt x="0" y="48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847960" y="6153120"/>
              <a:ext cx="380880" cy="3808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3733920" y="5867280"/>
            <a:ext cx="1581120" cy="609840"/>
            <a:chOff x="3733920" y="5867280"/>
            <a:chExt cx="1581120" cy="609840"/>
          </a:xfrm>
        </p:grpSpPr>
        <p:grpSp>
          <p:nvGrpSpPr>
            <p:cNvPr id="64" name=""/>
            <p:cNvGrpSpPr/>
            <p:nvPr/>
          </p:nvGrpSpPr>
          <p:grpSpPr>
            <a:xfrm>
              <a:off x="3733920" y="5867280"/>
              <a:ext cx="1581120" cy="457200"/>
              <a:chOff x="3733920" y="5867280"/>
              <a:chExt cx="1581120" cy="457200"/>
            </a:xfrm>
          </p:grpSpPr>
          <p:sp>
            <p:nvSpPr>
              <p:cNvPr id="65" name=""/>
              <p:cNvSpPr/>
              <p:nvPr/>
            </p:nvSpPr>
            <p:spPr>
              <a:xfrm>
                <a:off x="3733920" y="5867280"/>
                <a:ext cx="533160" cy="228600"/>
              </a:xfrm>
              <a:custGeom>
                <a:avLst/>
                <a:gdLst/>
                <a:ahLst/>
                <a:rect l="l" t="t" r="r" b="b"/>
                <a:pathLst>
                  <a:path w="336" h="144">
                    <a:moveTo>
                      <a:pt x="0" y="0"/>
                    </a:moveTo>
                    <a:lnTo>
                      <a:pt x="0" y="144"/>
                    </a:lnTo>
                    <a:lnTo>
                      <a:pt x="336" y="144"/>
                    </a:lnTo>
                    <a:lnTo>
                      <a:pt x="336" y="0"/>
                    </a:lnTo>
                  </a:path>
                </a:pathLst>
              </a:custGeom>
              <a:noFill/>
              <a:ln w="38160">
                <a:solidFill>
                  <a:srgbClr val="cc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781520" y="5867280"/>
                <a:ext cx="533520" cy="228600"/>
              </a:xfrm>
              <a:custGeom>
                <a:avLst/>
                <a:gdLst/>
                <a:ahLst/>
                <a:rect l="l" t="t" r="r" b="b"/>
                <a:pathLst>
                  <a:path w="336" h="144">
                    <a:moveTo>
                      <a:pt x="0" y="0"/>
                    </a:moveTo>
                    <a:lnTo>
                      <a:pt x="0" y="144"/>
                    </a:lnTo>
                    <a:lnTo>
                      <a:pt x="336" y="144"/>
                    </a:lnTo>
                    <a:lnTo>
                      <a:pt x="336" y="0"/>
                    </a:lnTo>
                  </a:path>
                </a:pathLst>
              </a:custGeom>
              <a:noFill/>
              <a:ln w="38160">
                <a:solidFill>
                  <a:srgbClr val="cc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105440" y="6095880"/>
                <a:ext cx="819000" cy="228600"/>
              </a:xfrm>
              <a:custGeom>
                <a:avLst/>
                <a:gdLst/>
                <a:ahLst/>
                <a:rect l="l" t="t" r="r" b="b"/>
                <a:pathLst>
                  <a:path w="336" h="144">
                    <a:moveTo>
                      <a:pt x="0" y="0"/>
                    </a:moveTo>
                    <a:lnTo>
                      <a:pt x="0" y="144"/>
                    </a:lnTo>
                    <a:lnTo>
                      <a:pt x="336" y="144"/>
                    </a:lnTo>
                    <a:lnTo>
                      <a:pt x="336" y="0"/>
                    </a:lnTo>
                  </a:path>
                </a:pathLst>
              </a:cu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4324320" y="6095880"/>
              <a:ext cx="380880" cy="38124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734436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15-3, page 3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8254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10-COLUMN WORK SHEET FOR A MERCHANDISING BUSINESS (LEFT PAG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Ch15-03b" descr=""/>
          <p:cNvPicPr/>
          <p:nvPr/>
        </p:nvPicPr>
        <p:blipFill>
          <a:blip r:embed="rId1"/>
          <a:srcRect l="0" t="0" r="50929" b="52882"/>
          <a:stretch/>
        </p:blipFill>
        <p:spPr>
          <a:xfrm>
            <a:off x="422280" y="1143000"/>
            <a:ext cx="6781680" cy="47242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238880" y="1219320"/>
            <a:ext cx="1752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ord the trial bala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238880" y="1752480"/>
            <a:ext cx="1752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n the adjustme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505320" y="1905120"/>
            <a:ext cx="380880" cy="38088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257800" y="1905120"/>
            <a:ext cx="380880" cy="38088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34436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15-3, page 3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8254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10-COLUMN WORK SHEET FOR A MERCHANDISING BUSINESS (RIGHT PAG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Ch15-03b" descr=""/>
          <p:cNvPicPr/>
          <p:nvPr/>
        </p:nvPicPr>
        <p:blipFill>
          <a:blip r:embed="rId1"/>
          <a:srcRect l="61112" t="0" r="0" b="45755"/>
          <a:stretch/>
        </p:blipFill>
        <p:spPr>
          <a:xfrm>
            <a:off x="404640" y="1143000"/>
            <a:ext cx="5421600" cy="5486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791320" y="1219320"/>
            <a:ext cx="3200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tend the balances in the Trial Balance columns to the Adjusted Trial Balance colum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791320" y="2257560"/>
            <a:ext cx="3200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tal, prove, and rule the Adjusted Trial Balance colum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1523880"/>
            <a:ext cx="381240" cy="38124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5410080"/>
            <a:ext cx="380880" cy="38124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733920" y="1447920"/>
            <a:ext cx="380880" cy="38088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791320" y="5791320"/>
            <a:ext cx="380880" cy="38088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791320" y="3051000"/>
            <a:ext cx="32004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tend the amounts in the Adjusted Trial Balance columns to the appropriate Income Statement and Balance Sheet colum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91320" y="4317840"/>
            <a:ext cx="2438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tal, prove, and rule the appropriate Income Statement and Balance Sheet colum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34436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15-3, page 3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1T00:27:23Z</dcterms:created>
  <dc:creator>Mary Colleen McLaughlin</dc:creator>
  <dc:description/>
  <dc:language>en-US</dc:language>
  <cp:lastModifiedBy>Mary Colleen McLaughlin</cp:lastModifiedBy>
  <cp:lastPrinted>1999-04-06T03:26:10Z</cp:lastPrinted>
  <dcterms:modified xsi:type="dcterms:W3CDTF">1999-04-21T14:34:15Z</dcterms:modified>
  <cp:revision>41</cp:revision>
  <dc:subject/>
  <dc:title>ADJUSTING ENTRY FOR SUPPLIES</dc:title>
</cp:coreProperties>
</file>